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C8C-957E-4420-BB97-135E8800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6FE-53A8-4DAE-ADC4-CCA25F6C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F6C-1BD8-4CA4-862D-15CB0CEC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55C-D476-41DB-B262-DACCB54B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BD42-8A7C-47EC-825E-3821B1B3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004A-EDD4-4A5E-87E2-FB271367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EB33-7248-455F-B68D-29A4F270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3A00-AE47-4962-8CF0-2E347CD3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52D7-435B-4CFA-8FC4-E0C0471B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E004-6E89-4782-8297-8C2E3717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8258-A8F2-4773-9481-7EF1F95D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676-DCA4-4096-A503-AF5E9688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5C3C-1396-472A-A6C0-74B806A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71CE-FC4B-4502-9119-4F9FBC7B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A14E-FB9D-4155-9849-A6066655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3DC2-D2E3-4FE9-BA58-86D34663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FD10-B4CC-4D06-B6A7-36EC411A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2696-72B4-4C78-9E5D-8EB12835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53689-2BF2-464B-AFF4-FF96CC44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C502-7B54-48B4-9D2D-62FE8C4A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70E7-FD7E-40F9-8AAA-9F9D87F0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B197-4C8B-4470-BC5A-F3767809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9B5-7647-44D2-BF06-D3DE1150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FF037-C78B-4338-A54B-668F048D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FC51-5220-4144-A0FC-9040808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4163-DDCC-4B10-834F-9EC217D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61536-1BBE-465B-A1E3-5AC1B56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9004-F28B-4156-A501-62E9BAEC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F995-575E-443D-B5FC-69805F6F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3070-B717-471F-9316-F109D340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8D30D-6414-4720-BB84-A8ABD86B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ADAC-8658-4D9B-9B14-76785E96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B2E6-6A07-4B76-9BDF-560DE5F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907-4286-4174-AE09-1B6974D6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0051-914C-4CCE-8B1E-0200B84F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6A79-27F5-4C90-8242-20542115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06867-6D46-4230-A38D-247DC05F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C03D-7988-4C75-8A9B-FCA7D671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841D-A12C-46CD-83AF-CC54BCAE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8B28-C61E-4CDC-9664-BF6A612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7295-F7AA-4BE4-A11A-3DF44EE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DEC1-EFE6-4A07-A44F-E7E6DA8F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C81B7-8617-403B-A487-0DBCF716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31603-D804-42B2-8F89-7E9B976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EC4-4E83-4E36-A107-61E94CE1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4B004-C814-482B-9A72-547F79D0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D77F6-3A7D-426A-8204-2E966442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D4958-1F9C-4AD5-9BD2-06F5C8EC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4DAD-A4C7-4EDF-80EE-E8EB142B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E5C8-7811-45B8-8FE7-9C4BD661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8958B-1F09-451C-B986-8E122903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FE30-5425-4A36-984B-5B3E3DC0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F2012-471E-4CB8-B183-5E827521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FE0C7-690B-428C-A72B-A7DF65D9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F8C51-A91E-4E6A-BC22-3EAA9BE6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AD4-C54D-4724-9146-95ED2D7A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438B-0EFD-47E8-B1CF-4CBB53B1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4435F-0264-4700-B5FB-5537FEBA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9D3AE-8B3A-4106-834B-4323ADC4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CABF4-CC38-4315-95D9-04CF5C7D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9BA0F-6748-449D-AB52-2EC36C49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8DA3-6590-4CA2-B786-108E718E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0C33E-FDBE-425E-9955-3F68B2BB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31D50-C168-4CCD-996E-90991478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AC546-0209-4AFA-B3F7-8E02BD7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E8AD9-287A-46D4-9345-1835E760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69D-4B65-4E95-9BDE-A09B1190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AC28-9560-4A04-8205-8DC1809F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B46DA-C2E2-4523-A793-3B144F16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EF14F-C0A8-43A5-89D9-8030059D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3244F-34DF-4569-9432-40A0A582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5056C-A3C2-426E-A3EF-5D763C66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C8AEE-4B7F-4C8B-ACF1-46DC4CA1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4A0CA-8427-405F-92D4-06B55BEE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46EF-D7A0-4FD6-8C88-FEE7243B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5F60B-FF50-4F85-A125-C3FB873A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5E7DB-E511-4439-AA07-1C558BE5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06B-5A04-43BE-AC29-9FE92AF8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950F8-8362-4FCE-99DB-311D8A3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3773F-0000-44AB-B011-499E8CE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13AF1-23EF-4B11-AD70-A3B1B0DA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3A82-3CE0-45AD-8672-EBD2EF2D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D7E6B-14BF-43BD-9C3F-B177EA12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E4F6E-A3C6-482D-A094-1E071231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EA989-B9B6-4865-A6E3-EAEACAB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04AA1-5315-4237-B9A5-9F5AD260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4405C-BAD9-4E28-9960-EE4B8874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7EBF0-AFBD-4B74-B17A-3B570704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1E3-0A22-4490-AD00-57147E1E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43627-B22F-4495-A1D2-1F089D13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48A22-1098-44D0-B0E7-F253E50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6528-D6EF-447B-9492-EC9BEFF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95555-C1C8-45E6-925F-850517C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0920B-E0E3-43FD-A026-65D8FE19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4922-91C3-405C-A519-4433AB0E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36D49-2F4E-42D0-B0E2-4B0D1E24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B70F5-F67C-4D92-92AC-F31390D92C4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56720-B567-4F5F-AADF-2C28145BC2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4F1EF-9D84-4DBF-8E4D-80760102DE7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B3248-DC2E-4857-ABBD-FB94F8A28B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49D26-998C-4642-B83D-0294D940670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E36B9-AD58-4872-9BB2-C054117768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2C747-2D3A-4E94-9EA0-314777E0151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882F2-3F21-4948-888B-CE4D62C758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38357-FA3C-4636-BA3A-BDEB8C779A8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ACAE0-73D5-40D0-8B6D-C6012F330E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8E5A1-2448-4CAC-8EEE-603883DF462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CD1C4-4AFF-462E-BE4E-E0EB583A0F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2BB3F-40E7-4FB9-B1C4-8E586DEE340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2BD30-E849-487C-80B5-8623B9C870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8233E-779A-430F-80DE-6D8B46762B3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F3047-E3D5-4135-AF11-5F7D11D7A7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ers/teacher/Desktop/Presentation%20Week/DataAnalysis.ppt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176480" y="231840"/>
            <a:ext cx="7785000" cy="20606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82600" y="325728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Toby Fische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Integration Coach for 21st Century Skill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Upper Arlington City School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Lucida Sans Unicode"/>
              </a:rPr>
              <a:t>CreatingLearners.com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0" y="1573200"/>
            <a:ext cx="3983040" cy="34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2098440"/>
            <a:ext cx="82296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What data do you look at and how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ow do your teachers look at data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What data are we spending too much time on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What data are we not looking at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w do we improve the data?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le 2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1457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2131920" y="1417680"/>
            <a:ext cx="557532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of instructional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much time is spent teacher teaching vs student learn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ubric for learning scores (format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ily formative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 in better numb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C’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teaching/model tea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it sim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data to set 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sure the data truly represents what we want students to know and be able to 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olve the students in analyzing their own dat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2b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2b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2b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" dur="1" fill="hold"/>
                                  <p:tgtEl>
                                    <p:spTgt spid="3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2b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5:14:56Z</dcterms:created>
  <dc:creator>UA Schools</dc:creator>
  <dc:description/>
  <dc:language>en-US</dc:language>
  <cp:lastModifiedBy>UA Schools</cp:lastModifiedBy>
  <dcterms:modified xsi:type="dcterms:W3CDTF">2010-08-21T15:17:34Z</dcterms:modified>
  <cp:revision>4</cp:revision>
  <dc:subject/>
  <dc:title>Data to Inform Instruction</dc:title>
</cp:coreProperties>
</file>